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DD4-BAA4-4EF0-A557-C630C2FA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FE3-082B-4B02-8119-89EE8B11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BD6-B358-483C-AD9B-CA6FEF8B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E55-4D23-432E-8E44-653790C0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D94-414D-471E-B79B-2D99A11B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F4B-6732-4AF2-9BCD-67AAA18F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33C-AC81-49F9-9652-11236266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58EC-5FA5-490D-8810-C597F7E7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056-2524-4CF7-B2B4-6959B34D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348-AE50-4F83-A4E8-7CE252B2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EBC-81AB-4655-B0AC-9597173F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986-9227-4269-8147-4CB33FB4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7D7B-5B02-4320-8FDA-2A4E8EA4C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17:49:26Z</dcterms:created>
  <dc:creator>EC Computing Customer</dc:creator>
  <dc:description/>
  <dc:language>en-US</dc:language>
  <cp:lastModifiedBy>mpetrow</cp:lastModifiedBy>
  <dcterms:modified xsi:type="dcterms:W3CDTF">2009-06-30T15:46:57Z</dcterms:modified>
  <cp:revision>17</cp:revision>
  <dc:subject/>
  <dc:title>Slide 1</dc:title>
</cp:coreProperties>
</file>